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21A-A736-45D2-9F62-C4630DA1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E50-68CC-4AA2-B404-57C74F44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695-B397-4B79-81C4-D8AC6635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4FE-D631-4E3A-9E6D-65D3E1E3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2B2-5836-4B4B-8E9A-47FB3426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C9E-E897-424E-90C4-07FEE6F9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D00-F8D8-4052-B0AC-6D3373E5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B0B-1D2F-475C-8CB2-19B64B28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269-537A-4645-AC4D-60B4C115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7BD-1F7E-4BF9-83A7-499628F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44E-3B08-4DF5-A79F-EEBD5B0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8FE-0388-4070-BACB-88C0C61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60E3-091F-47C4-B7D5-7D7BCCBDD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Graphs U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the slope and y-intercep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00200"/>
            <a:ext cx="7696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6x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3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+ 4y – 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23880" y="5562720"/>
                <a:ext cx="946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equ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-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½ x 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6765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62520" y="1600200"/>
          <a:ext cx="4723920" cy="4857840"/>
        </p:xfrm>
        <a:graphic>
          <a:graphicData uri="http://schemas.openxmlformats.org/drawingml/2006/table">
            <a:tbl>
              <a:tblPr/>
              <a:tblGrid>
                <a:gridCol w="235800"/>
                <a:gridCol w="235800"/>
                <a:gridCol w="237240"/>
                <a:gridCol w="236160"/>
                <a:gridCol w="235800"/>
                <a:gridCol w="235800"/>
                <a:gridCol w="235800"/>
                <a:gridCol w="237960"/>
                <a:gridCol w="235800"/>
                <a:gridCol w="235800"/>
                <a:gridCol w="235800"/>
                <a:gridCol w="235800"/>
                <a:gridCol w="237600"/>
                <a:gridCol w="235800"/>
                <a:gridCol w="235800"/>
                <a:gridCol w="235800"/>
                <a:gridCol w="235800"/>
                <a:gridCol w="237960"/>
                <a:gridCol w="235800"/>
                <a:gridCol w="235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733920" y="40384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144756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in slope-intercept form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– 6y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y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+ 3y – 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0.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8578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038480" y="16765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40384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24480" y="144756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arallel lin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arallel 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(//) lines have the =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19320" y="2362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716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286000"/>
            <a:ext cx="914400" cy="129528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914400" cy="129528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209680"/>
            <a:ext cx="0" cy="1295640"/>
          </a:xfrm>
          <a:prstGeom prst="line">
            <a:avLst/>
          </a:prstGeom>
          <a:ln w="93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209680"/>
            <a:ext cx="0" cy="1295640"/>
          </a:xfrm>
          <a:prstGeom prst="line">
            <a:avLst/>
          </a:prstGeom>
          <a:ln w="93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72480" y="2781360"/>
            <a:ext cx="1295280" cy="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933640"/>
            <a:ext cx="1295640" cy="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de whether the graphs of the two equations are parallel li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+2,   y + 3x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12 = y, y = 10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2x = 6x + 1, 9x – 3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slope &amp;y-inter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6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 + 4y – 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219320" y="3048120"/>
                <a:ext cx="641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2767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3x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/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  y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1066680"/>
            <a:ext cx="3352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quation in slope-intercept form.  Then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– 6y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y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y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0.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.2x + 3y – 9 =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410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whether the graphs of the two equations are parallel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– 12 = y, y = 10 +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  3y – 4x = 3, y = -4x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4:53:33Z</dcterms:created>
  <dc:creator>cdolezal</dc:creator>
  <dc:description/>
  <dc:language>en-US</dc:language>
  <cp:lastModifiedBy>cdolezal</cp:lastModifiedBy>
  <dcterms:modified xsi:type="dcterms:W3CDTF">2008-11-06T17:48:35Z</dcterms:modified>
  <cp:revision>8</cp:revision>
  <dc:subject/>
  <dc:title>Slide 1</dc:title>
</cp:coreProperties>
</file>